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482-08D9-486D-911F-87E9798D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BCD-19F3-4675-9D4A-4543621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C57-43DA-40F1-A576-939CA1B2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AE5-8D45-45A9-BF4A-E3ABA08E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B320-D427-4EF0-8BDB-7FFBA0E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997-45DB-4DA2-BC86-D81E0E4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E5B5-8C6B-4903-8968-6249AC5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844-03DC-4FC6-AE9B-E370A340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F3F3-DE44-438A-8F00-AAD46A6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E408-1BAB-474E-AE22-C005FAEE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E42E-B045-4688-9A35-2AF2390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4BF-D6F5-4AF6-B556-BFC6FA0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E5E9-36C1-4AC2-B6F4-193FF34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EF1-9BE6-4337-814F-E7B314C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5CA7-0182-4EC0-9428-2E0A846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4567-CC50-4D0F-BFFD-9841702B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89C-A448-4073-AE22-0BAB8B9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2B3-AF41-409B-A1C2-8603C48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DB3-EE2E-41B8-8AC0-EFF46FAD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559-0C0F-4526-959E-F1944A00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058-E1BB-40F7-AAEA-3A80ABC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87F-090F-4694-A42E-184D3470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4EB-496A-4BD3-ADB0-D7199F5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F1A-674D-46F5-9522-5205BD40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E52-FD7C-4378-845D-9812A4D3A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072-D116-472E-AFB9-2ECEB3BBE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1" lang="en-C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History of Atomic Model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critu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 things are composed of minute, invisible, and indivisible particles, atoma (indivisibles) in constant motion through otherwise empty space. K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 Joseph John Thompson 1900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analyzed the nature of cathode 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he reduced that they had particles like properties and were identical regardless of the material producing the 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-Pudding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Lord Kelvin and JJ Thompson concluded that the atom was composed of tiny negatively charged electrons and positive charge mixed together.  This was called the Plum-Pudding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herford Gold Foil Experiment 191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rnst Rutherford shot alpha particle at extremely thin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This result was thought to be like cannon balls bounc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ost went right through with little deflection, but some bounced back tissu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herford Atomi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 alpha particle must have bounced off an area of the atom that is positively charged and extremely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utherford concluded that the atom has a dense positive nucleus with electrons orbiting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hr Model 19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ght is emitted from matter at particular energies, or qu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ght is produced when electrons moved from high energy atoms to low energy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lectrons exist at particular or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Atomi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Quantum Mechanism shows how there is a limit to our ability to determine the motion and position of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The motion of objects is described using a wave equation Ψ (PSI), where Ψ is the probability distribution around the hydrogen atom we obtain orbital sh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nucleus contains protons and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protons and neutrons are composed of qu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 strong force between the quarks is what holds the nucleus together.  The mechanism is still not well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20:55:41Z</dcterms:created>
  <dc:creator>default</dc:creator>
  <dc:description/>
  <dc:language>en-US</dc:language>
  <cp:lastModifiedBy>default</cp:lastModifiedBy>
  <dcterms:modified xsi:type="dcterms:W3CDTF">2004-04-01T21:12:48Z</dcterms:modified>
  <cp:revision>4</cp:revision>
  <dc:subject/>
  <dc:title>   History of Atomic Model </dc:title>
</cp:coreProperties>
</file>